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FFA-8CF4-40B5-95AC-BF790AF07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0EB-4722-464B-91A5-83606189A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EA5-E0C3-486D-A39E-F7611547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81B-ABD2-432A-94D1-C8F08B53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2D7-5342-44A9-B3B1-40B58EF7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7D7-656F-45EF-B29E-0EBFC45B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1E3-8052-4F69-A2A3-4D7DA0F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D7E-63BC-47D4-92C2-2F67E5AB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289-BE66-493E-9DC2-C7789038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FB1-A555-4A80-A1CF-531C55F6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19A-8EF9-40AA-855B-43FFBE54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DDE-6815-4AF2-A789-E3F226A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E28-B2CA-4318-9C51-4374FA5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B7D-2DFC-477D-8290-FFFF811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283-8FD2-4DE0-BA7D-1BF031398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l.troy.k12.mi.us/staff/bnewingham/myweb3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&amp;I 264: Launching Reader’s and Writer’s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17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plan format is posted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s://encrypted-tbn3.google.com/images?q=tbn:ANd9GcSx8QJ0L-RPAPE35F6QhMTKDS6Xjsai_kXVJB0VC420ZWfoRggTsQ"/>
          <p:cNvPicPr/>
          <p:nvPr/>
        </p:nvPicPr>
        <p:blipFill>
          <a:blip r:embed="rId1"/>
          <a:stretch/>
        </p:blipFill>
        <p:spPr>
          <a:xfrm>
            <a:off x="457200" y="228600"/>
            <a:ext cx="3733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2331720"/>
            <a:ext cx="8001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ing: Critical Literacy of a 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Grade Classroom (Wik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d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novel and sign up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Focus Unit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draft from your heart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encrypted-tbn3.google.com/images?q=tbn:ANd9GcRd8HWZFAkSD6fE9Y6OUzdZtnQhj83iVJltPwD8OoHswecwLGBn3A"/>
          <p:cNvPicPr/>
          <p:nvPr/>
        </p:nvPicPr>
        <p:blipFill>
          <a:blip r:embed="rId1"/>
          <a:stretch/>
        </p:blipFill>
        <p:spPr>
          <a:xfrm>
            <a:off x="533520" y="0"/>
            <a:ext cx="29718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704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Building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Reading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Literature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e in Literature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Literature Focus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Teacher as 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Writer’s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Writer’s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ANd9GcQDe1LYk075KonpzF9PhFwJoQD5iDxuEbRAAcPK4aK-IAn4gp5P"/>
          <p:cNvPicPr/>
          <p:nvPr/>
        </p:nvPicPr>
        <p:blipFill>
          <a:blip r:embed="rId1"/>
          <a:stretch/>
        </p:blipFill>
        <p:spPr>
          <a:xfrm>
            <a:off x="0" y="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hools shouldn’t be about handing down a collection of static truths to the next generation but about responding to the needs and interests of the students themselves.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fie Koh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 significant learning occurs without a signific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"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mes C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ANd9GcSp3pUFPaHj4oz9XjD01cEyNcSUTFfOTSDvWmPZPO7KPWvunRfT"/>
          <p:cNvPicPr/>
          <p:nvPr/>
        </p:nvPicPr>
        <p:blipFill>
          <a:blip r:embed="rId1"/>
          <a:stretch/>
        </p:blipFill>
        <p:spPr>
          <a:xfrm>
            <a:off x="3043080" y="4495680"/>
            <a:ext cx="228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ating a Communit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ers &amp; Wri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in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l.troy.k12.mi.us/staff/bnewingham/myweb3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s://www.teachingchannel.org/videos/building-classroom-commun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IMG_6079%20%5bDesktop%20Resolution%5d_small"/>
          <p:cNvPicPr/>
          <p:nvPr/>
        </p:nvPicPr>
        <p:blipFill>
          <a:blip r:embed="rId2"/>
          <a:stretch/>
        </p:blipFill>
        <p:spPr>
          <a:xfrm>
            <a:off x="152280" y="3124080"/>
            <a:ext cx="183528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G_6098%20%5bDesktop%20Resolution%5d_small"/>
          <p:cNvPicPr/>
          <p:nvPr/>
        </p:nvPicPr>
        <p:blipFill>
          <a:blip r:embed="rId3"/>
          <a:stretch/>
        </p:blipFill>
        <p:spPr>
          <a:xfrm>
            <a:off x="2108160" y="3124080"/>
            <a:ext cx="4143240" cy="271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P1040391_small"/>
          <p:cNvPicPr/>
          <p:nvPr/>
        </p:nvPicPr>
        <p:blipFill>
          <a:blip r:embed="rId4"/>
          <a:stretch/>
        </p:blipFill>
        <p:spPr>
          <a:xfrm>
            <a:off x="6286680" y="4267080"/>
            <a:ext cx="2857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4-10-10+154"/>
          <p:cNvPicPr/>
          <p:nvPr/>
        </p:nvPicPr>
        <p:blipFill>
          <a:blip r:embed="rId1"/>
          <a:stretch/>
        </p:blipFill>
        <p:spPr>
          <a:xfrm>
            <a:off x="0" y="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85800" y="5791320"/>
            <a:ext cx="77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rscarterscalling.blogspot.com/search?updated-max=2010-08-20T21%3A02%3A00-04%3A00&amp;max-results=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dia-cache-ec4.pinterest.com/upload/255086766364119393_oycGFKwm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These teachers wanted EVERYONE to know they were working on building their collaborative learning community!"/>
          <p:cNvPicPr/>
          <p:nvPr/>
        </p:nvPicPr>
        <p:blipFill>
          <a:blip r:embed="rId2"/>
          <a:stretch/>
        </p:blipFill>
        <p:spPr>
          <a:xfrm>
            <a:off x="4495680" y="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Tu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of 3, share the text you brou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you choos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us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First-Day-Jitters"/>
          <p:cNvPicPr/>
          <p:nvPr/>
        </p:nvPicPr>
        <p:blipFill>
          <a:blip r:embed="rId1"/>
          <a:stretch/>
        </p:blipFill>
        <p:spPr>
          <a:xfrm>
            <a:off x="152280" y="3809880"/>
            <a:ext cx="224964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LikeMyself"/>
          <p:cNvPicPr/>
          <p:nvPr/>
        </p:nvPicPr>
        <p:blipFill>
          <a:blip r:embed="rId2"/>
          <a:stretch/>
        </p:blipFill>
        <p:spPr>
          <a:xfrm>
            <a:off x="2362320" y="3429000"/>
            <a:ext cx="233496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Thq3UG_fnRvINoZ8Nvlrj7s-_uMCYTGo6eh8yzvWDGvjICbJ4S"/>
          <p:cNvPicPr/>
          <p:nvPr/>
        </p:nvPicPr>
        <p:blipFill>
          <a:blip r:embed="rId3"/>
          <a:stretch/>
        </p:blipFill>
        <p:spPr>
          <a:xfrm>
            <a:off x="7000920" y="27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ANd9GcR_5DAkjo_bgDkCJfg3iD9g-yifueaE_S_UWxkehgCI0zQUcvF6vA"/>
          <p:cNvPicPr/>
          <p:nvPr/>
        </p:nvPicPr>
        <p:blipFill>
          <a:blip r:embed="rId4"/>
          <a:stretch/>
        </p:blipFill>
        <p:spPr>
          <a:xfrm>
            <a:off x="4724280" y="4438800"/>
            <a:ext cx="1828800" cy="241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ANd9GcSe-e2nnCJdRx5m5oxNTvAn3nredM7SxPkGMI2ftujexDyZm_MvIQ"/>
          <p:cNvPicPr/>
          <p:nvPr/>
        </p:nvPicPr>
        <p:blipFill>
          <a:blip r:embed="rId5"/>
          <a:stretch/>
        </p:blipFill>
        <p:spPr>
          <a:xfrm>
            <a:off x="6553080" y="491508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spaceout"/>
          <p:cNvPicPr/>
          <p:nvPr/>
        </p:nvPicPr>
        <p:blipFill>
          <a:blip r:embed="rId6"/>
          <a:stretch/>
        </p:blipFill>
        <p:spPr>
          <a:xfrm>
            <a:off x="0" y="-1600200"/>
            <a:ext cx="9791640" cy="446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paceout"/>
          <p:cNvPicPr/>
          <p:nvPr/>
        </p:nvPicPr>
        <p:blipFill>
          <a:blip r:embed="rId7"/>
          <a:stretch/>
        </p:blipFill>
        <p:spPr>
          <a:xfrm>
            <a:off x="-647640" y="-1981080"/>
            <a:ext cx="9791640" cy="446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smNorman_Rockwell-School_Fi"/>
          <p:cNvPicPr/>
          <p:nvPr/>
        </p:nvPicPr>
        <p:blipFill>
          <a:blip r:embed="rId8"/>
          <a:stretch/>
        </p:blipFill>
        <p:spPr>
          <a:xfrm>
            <a:off x="5410080" y="2286000"/>
            <a:ext cx="1657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reader’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57040" y="12952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nk of yourself as a rea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do you approach 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re do you like to be when you 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do you do when a text is difficul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do you enjo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does it affect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E-book-reader"/>
          <p:cNvPicPr/>
          <p:nvPr/>
        </p:nvPicPr>
        <p:blipFill>
          <a:blip r:embed="rId1"/>
          <a:stretch/>
        </p:blipFill>
        <p:spPr>
          <a:xfrm>
            <a:off x="304920" y="4800600"/>
            <a:ext cx="1684080" cy="164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Qj93jzFqrd8psGVxRKHhnX48R1StoXm5JmwTW0IBHkm4S6xvHvoQ"/>
          <p:cNvPicPr/>
          <p:nvPr/>
        </p:nvPicPr>
        <p:blipFill>
          <a:blip r:embed="rId2"/>
          <a:stretch/>
        </p:blipFill>
        <p:spPr>
          <a:xfrm>
            <a:off x="6477120" y="457200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T8Bcddd5oMtd8ZchxUeBMLOApyaLnsNVr5XJMDk03noinwC4Z_"/>
          <p:cNvPicPr/>
          <p:nvPr/>
        </p:nvPicPr>
        <p:blipFill>
          <a:blip r:embed="rId3"/>
          <a:stretch/>
        </p:blipFill>
        <p:spPr>
          <a:xfrm>
            <a:off x="0" y="0"/>
            <a:ext cx="2065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you Teach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981080"/>
            <a:ext cx="84582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on Core Standards for a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Writing and Speaking/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look at Science, Social Science and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literacy instruction look like at this grade lev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ki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materia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insights, thoughts or questions do you have as you explo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ommon_Core_State_Standards_gif"/>
          <p:cNvPicPr/>
          <p:nvPr/>
        </p:nvPicPr>
        <p:blipFill>
          <a:blip r:embed="rId1"/>
          <a:stretch/>
        </p:blipFill>
        <p:spPr>
          <a:xfrm>
            <a:off x="0" y="0"/>
            <a:ext cx="37339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e your notebook to breathe in the world around you. You can write about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What amazes/surprises/anger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What you wonder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What you not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"Seed Ideas" or "Triggers" to generate stories or po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Small details that intrigue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Snatches of talk you overh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Mem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L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) Photos, articles, ticket stubs or other artifa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) Your own sketches, drawings or dood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) Quotes or inspiring passages from books or po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lph Fletcher, http://www.ralphfletcher.com/tips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ANd9GcResscoI2OIrm1YwDWDo6I8CaTMF3Rn1_JMhx3JSRzcHZgiK2Lf"/>
          <p:cNvPicPr/>
          <p:nvPr/>
        </p:nvPicPr>
        <p:blipFill>
          <a:blip r:embed="rId1"/>
          <a:stretch/>
        </p:blipFill>
        <p:spPr>
          <a:xfrm>
            <a:off x="7068960" y="3768840"/>
            <a:ext cx="20750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5:46:04Z</dcterms:created>
  <dc:creator>dana karraker</dc:creator>
  <dc:description/>
  <dc:language>en-US</dc:language>
  <cp:lastModifiedBy>College of Education</cp:lastModifiedBy>
  <dcterms:modified xsi:type="dcterms:W3CDTF">2013-01-17T17:43:03Z</dcterms:modified>
  <cp:revision>39</cp:revision>
  <dc:subject/>
  <dc:title>C&amp;I 264: Launching Reader’s and Writer’s Workshop</dc:title>
</cp:coreProperties>
</file>